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CF7-03FA-40CC-9F77-5C94BDE0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E3D-9680-4E08-9B5D-F26C71C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F8B-5AD1-4F08-B47A-12F1F635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94B-A2EE-4944-80AE-EB06DCC4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98D-D0A3-4965-9641-6B2B1B98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C3B-2D6E-4409-8AD1-BA44B04F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F72-A80D-4542-8458-C2C0E7F1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E98-CD30-4696-86DE-911BBB61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CC8-5D64-477C-8012-26FD55BA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8E7-D338-4B24-AADB-0B3C1AD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598-CBBB-4368-8523-75C5A81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953-05D8-4D1C-BB92-BFFDE9D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4177-EFEE-49A6-8243-184129E60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74.edres74.net/" TargetMode="External"/><Relationship Id="rId2" Type="http://schemas.openxmlformats.org/officeDocument/2006/relationships/hyperlink" Target="http://www.ash.edres74.ac-grenoble.f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14240" y="785880"/>
          <a:ext cx="6905880" cy="3821040"/>
        </p:xfrm>
        <a:graphic>
          <a:graphicData uri="http://schemas.openxmlformats.org/drawingml/2006/table">
            <a:tbl>
              <a:tblPr/>
              <a:tblGrid>
                <a:gridCol w="4033800"/>
                <a:gridCol w="2872080"/>
              </a:tblGrid>
              <a:tr h="38210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r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 sui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 l’enf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lectuellement préco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omprendre pour mieux l’accompagn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1"/>
          <p:cNvSpPr/>
          <p:nvPr/>
        </p:nvSpPr>
        <p:spPr>
          <a:xfrm>
            <a:off x="1194480" y="5531760"/>
            <a:ext cx="675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Nom 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Prénom :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Date de naissance :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Livret délivré le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 :……………………………………………………………………………………………………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86080" y="881280"/>
            <a:ext cx="549756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Ce livret renvoie au guide intitul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« Pour la réussite de tous et de chacun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Reconnaître un enfant intellectuellement préco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Prévenir et remédier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rédigé par le Groupe de pilotage des élèves intellectuellement précoces de Haute-Savo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Ces documents sont téléchargeables s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le site de l’Inspection Académiqu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1"/>
              </a:rPr>
              <a:t>www.ia74.edres74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le site de l’ASH Adaptation Scolaire et Scolarisation des Elèves Handicapé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fr-FR" sz="14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www.ash.edres74.ac-grenoble.fr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EIP"/>
          <p:cNvPicPr/>
          <p:nvPr/>
        </p:nvPicPr>
        <p:blipFill>
          <a:blip r:embed="rId3"/>
          <a:stretch/>
        </p:blipFill>
        <p:spPr>
          <a:xfrm>
            <a:off x="0" y="0"/>
            <a:ext cx="2197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786040" y="2221200"/>
            <a:ext cx="6143760" cy="1632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act Inspection Académ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spection ASH 74 : 04 50 10 30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638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654480"/>
            <a:ext cx="8786880" cy="55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► ► ► </a:t>
            </a:r>
            <a:r>
              <a:rPr b="1" lang="fr-FR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Objectif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Ce livret est délivré à l’élève et à sa famille à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découverte de sa précocité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 et permet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la vigilanc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 nécessaire à une scolarité réuss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est accompagné d’un guide à destination des enseign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sera dûment renseigné lors de la réunion de l’équipe éducat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doit faciliter le dialogue entre l’école et la famille tout au long du cursus scol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est remis le :…………………………………………………………………………….</a:t>
            </a:r>
            <a:r>
              <a:rPr b="0" i="1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par le Directeur d’école ou le Chef d’établissement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OBJECTIF DU LIVRET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POUR L’EL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-&gt;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Faire connaître ta particularité face aux apprentissages scolai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-&gt;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S’appuyer sur tes points 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-&gt;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dentifier tes difficultés et mettre en place les adaptations pédagogiques nécessaires pour ta réussite 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33480"/>
            <a:ext cx="8929800" cy="65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► ►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IP: 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L’enfant intellectuellement précoce (EIP) est un enfant dont le développement intellect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est en avance par rapport à celui des enfants de son âge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AIS SURTOU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c’est un enf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qui présente certaines particularités dans son processus de compréhension et d’apprentiss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OINTS DE REPERES NON EXHAUST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(un même enfant ne montre pas forcément toutes ces caractéristiqu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est peut être en avance pour CERTAINS apprenti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a un fonctionnement intellectuel particulier, une personnalité singuliè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a un fonctionnement émotionnel intense et ri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met de l’affectif partout, tout le temps (hypersensibilité, hyperesthési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« éponge émotionnelle », « écorché vif ») sans toujours le mont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a un sens critique très développé en toutes circonstances y compris face à lui-mê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argumente en perman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a un sens aigu de la just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a un besoin vital de mettre du sens aux apprenti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Il a une curiosité insat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Attention à la présence possible de troubles associés 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dyslexie, dyspraxie, troubles attentionnels,  syndrome d’Asperger, dépression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La précocité peut avoir pour conséquence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Une  mauvaise estime de s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Une  ag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Des difficultés scol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192960"/>
            <a:ext cx="8286840" cy="60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► ► ►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Antécédents de l’enf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Bilan psychologique passé l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Professionnel(s)  et coordonnées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Détail des points forts révélés par le bilan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Calibri"/>
              </a:rPr>
              <a:t>Détail des points faibles révélés par le bilan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38160"/>
            <a:ext cx="8001000" cy="66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En cas de troubles associés (dyslexie, dyspraxie,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Bi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(s)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effectu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(s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Date(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Professionnel(s)  et coordonné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Conclusion du professionnel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Rééducation spécifique éventuell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Orthopho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Psychomotric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Orthop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Ergothérap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Calibri"/>
              </a:rPr>
              <a:t>Suivi psychologique éventuel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00040" y="1000080"/>
          <a:ext cx="8143920" cy="5014800"/>
        </p:xfrm>
        <a:graphic>
          <a:graphicData uri="http://schemas.openxmlformats.org/drawingml/2006/table">
            <a:tbl>
              <a:tblPr/>
              <a:tblGrid>
                <a:gridCol w="3727440"/>
                <a:gridCol w="326880"/>
                <a:gridCol w="327240"/>
                <a:gridCol w="328680"/>
                <a:gridCol w="326880"/>
                <a:gridCol w="327240"/>
                <a:gridCol w="326880"/>
                <a:gridCol w="407880"/>
                <a:gridCol w="408240"/>
                <a:gridCol w="326880"/>
                <a:gridCol w="326880"/>
                <a:gridCol w="327240"/>
                <a:gridCol w="328680"/>
                <a:gridCol w="326880"/>
              </a:tblGrid>
              <a:tr h="90792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868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adaptation au group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isolement ou rejet du grou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uvaise estime de s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étérogénéité dans les acquis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oubles de l’at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ortement inada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isme/écri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écalcitrant à la répét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ésintérêt pour le travail scol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n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res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86760" y="35820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►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► ►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Difficultés repé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85840" y="1928880"/>
          <a:ext cx="8572320" cy="4281480"/>
        </p:xfrm>
        <a:graphic>
          <a:graphicData uri="http://schemas.openxmlformats.org/drawingml/2006/table">
            <a:tbl>
              <a:tblPr/>
              <a:tblGrid>
                <a:gridCol w="3857400"/>
                <a:gridCol w="357480"/>
                <a:gridCol w="357120"/>
                <a:gridCol w="357120"/>
                <a:gridCol w="372960"/>
                <a:gridCol w="344520"/>
                <a:gridCol w="344520"/>
                <a:gridCol w="428760"/>
                <a:gridCol w="428400"/>
                <a:gridCol w="344520"/>
                <a:gridCol w="346320"/>
                <a:gridCol w="344160"/>
                <a:gridCol w="344520"/>
                <a:gridCol w="344520"/>
              </a:tblGrid>
              <a:tr h="86976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 niveau de l’école /l’établissement 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02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ccourcissement du cyc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olarisation en cours doub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écloisonnement par matiè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sonne référente dans l’écol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ialogue, écout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eliers de besoin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pécifiques EIP ou n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er l’accès à la BCD/CD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se en compte de ses affinités pour la composition des class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2433960" y="285840"/>
            <a:ext cx="427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► ►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Dispositifs mis en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1143000"/>
          <a:ext cx="8001000" cy="4675320"/>
        </p:xfrm>
        <a:graphic>
          <a:graphicData uri="http://schemas.openxmlformats.org/drawingml/2006/table">
            <a:tbl>
              <a:tblPr/>
              <a:tblGrid>
                <a:gridCol w="3714840"/>
                <a:gridCol w="357120"/>
                <a:gridCol w="357120"/>
                <a:gridCol w="285840"/>
                <a:gridCol w="285840"/>
                <a:gridCol w="357120"/>
                <a:gridCol w="357120"/>
                <a:gridCol w="357120"/>
                <a:gridCol w="357120"/>
                <a:gridCol w="285840"/>
                <a:gridCol w="285840"/>
                <a:gridCol w="357120"/>
                <a:gridCol w="285840"/>
                <a:gridCol w="357120"/>
              </a:tblGrid>
              <a:tr h="78912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Au niveau de la classe 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onnaissance et valorisation de leur singularit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38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abilité au sein de la classe (tutora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ification de son trav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ttre l’élève en situation de projet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ur ses propres curiosité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tention particulière aux consig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aire reformuler, décomposer, séquencer,…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apter le recours à l’écr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ictée à l’adulte, QCM, ordinateur, exercices à trous,…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nforcer progressivement les exigences de l’écr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lérance à la qualité de l’écrit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minution des exercices répétitif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"/>
          <p:cNvSpPr/>
          <p:nvPr/>
        </p:nvSpPr>
        <p:spPr>
          <a:xfrm>
            <a:off x="2433960" y="142920"/>
            <a:ext cx="427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► ►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Dispositifs mis en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► ►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s notes personnelles 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37:20Z</dcterms:created>
  <dc:creator>AL</dc:creator>
  <dc:description/>
  <dc:language>en-US</dc:language>
  <cp:lastModifiedBy>AL</cp:lastModifiedBy>
  <dcterms:modified xsi:type="dcterms:W3CDTF">2010-05-10T09:24:31Z</dcterms:modified>
  <cp:revision>7</cp:revision>
  <dc:subject/>
  <dc:title>Diapositive 1</dc:title>
</cp:coreProperties>
</file>